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868-7C85-4A41-942F-F5041ED2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15A-BED4-4C95-A2FA-E5CE7831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028-2232-4127-9735-DC1FF98C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979-0566-4FB7-95ED-F5099316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267-131E-4ACB-AA56-10C0448E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940-6177-47C7-B9C8-FA064DB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D0F-ED6E-40A5-8707-7CDD658E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9D9-BCF5-43A2-A50F-66997411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C74-B798-413A-B576-C27D336E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424-F0F8-4409-BC01-C8A2A40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52E-59AE-4003-A2AF-4703B3B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F22-752E-4159-90EC-83A05E3F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4C10-624E-43DB-8D43-E3CA0AF9F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zumaeta@renaissancecharter.or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6 de may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76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es una Charre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L.O: to learn about Mexican Charre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6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6 (6-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ltura en V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las hoj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pter 8: Cultura en Vivo ¡Viva Mexi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s 3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87 (16-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9:14:38Z</dcterms:created>
  <dc:creator>Helen Zumaeta</dc:creator>
  <dc:description/>
  <dc:language>en-US</dc:language>
  <cp:lastModifiedBy>Helen Zumaeta</cp:lastModifiedBy>
  <cp:lastPrinted>2016-05-05T16:05:55Z</cp:lastPrinted>
  <dcterms:modified xsi:type="dcterms:W3CDTF">2016-05-06T14:19:24Z</dcterms:modified>
  <cp:revision>9</cp:revision>
  <dc:subject/>
  <dc:title>Me llamo ________ Clase 10 N La fecha es el 15 de enero del 2013</dc:title>
</cp:coreProperties>
</file>